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C4F-6FEF-4609-81A5-ED262B61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920-819C-44BC-B646-73B17F68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A39-06C0-47FB-A2FF-342578B9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175-BE47-490A-8C77-E0B2C1A9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9AE25-223A-4983-B4EF-B8EF0EA1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E2DF2-35FA-4E6A-82CF-3C695076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E9B49-4BA9-48AE-867C-AEA33FC7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1BFEE-B6E1-4B61-91DD-4985C107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51B50-A62D-4A0A-8CBC-70AFC592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F933D-DC17-4066-85E2-AE45D9FE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A8B5C-418B-4727-BA19-03F316E9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FF0-51EC-466F-BADF-9DA2B2D8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C92E4-AFF6-4FB4-AA05-3A91B4D1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55618-F2AC-4196-BAEF-B725D734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05E6B-7EA4-4182-B0CF-8B0150D2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5F434-3D9E-4F8E-AC36-A32F3B49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13A78-5869-4962-8EE3-336C3290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14D-6B0A-4A9B-83B8-0F3B2410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34D-9EB5-47C1-8927-FFB918BB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E96-1C65-4252-860E-B20AF029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384-64B8-4CB9-82FA-0A236317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B82-DD8A-4853-B899-5E4D88E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276-2CE7-4595-8E7E-6AAAB156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E04-EDFE-4A6B-ABEB-0BBF2253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F0D50F-FBA2-4AD0-9A6A-EDA70172DA0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47E8AD-3D6C-4A28-94A4-C1F8017AAC5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АЗЕОЛОГИЗ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ить за нос -…………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уть губы - ……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ть баклуши - …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кусить язык - 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рубить на носу - 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евать носом -……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еиваться как дым -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вать стрекача -……………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75520" y="1844640"/>
            <a:ext cx="28684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55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305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455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61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765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92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1085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РЕДЕЛИ ВИД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исовать              смотре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опить                    люби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удиться                 надува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етить                     построи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ить                          писать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ушить                   издав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меяться                    слом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16360" y="1341360"/>
            <a:ext cx="314316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235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3450"/>
                            </p:stCondLst>
                            <p:childTnLst>
                              <p:par>
                                <p:cTn id="7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475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496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гол – самая огнепышущая, самая живая часть речи. В глаголе струится самая алая, самая свежая, артериальная кровь языка. Да ведь и назначение глагола – выражать само действие!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.Юго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0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694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694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694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4032000" cy="5472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Придумать небольшую сказку о стране Глаголии и её жителях, используя глаголы и определяя их ви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о картинкам на странице 112 (упр.644) придумать предложения и определить вид глаго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0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9756720" cy="704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6:20:59Z</dcterms:created>
  <dc:creator>olga</dc:creator>
  <dc:description/>
  <dc:language>en-US</dc:language>
  <cp:lastModifiedBy>1</cp:lastModifiedBy>
  <dcterms:modified xsi:type="dcterms:W3CDTF">2009-04-28T15:56:26Z</dcterms:modified>
  <cp:revision>3</cp:revision>
  <dc:subject/>
  <dc:title>ФРАЗЕОЛОГИЗМЫ</dc:title>
</cp:coreProperties>
</file>